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CDA-9557-4652-8137-C1D4AAAD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D98-9047-40C7-985F-E337A287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751-3193-4CCB-BF1E-5AF35C13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62E-FA34-40C8-A5BF-17ABFB25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16E3-791B-47A2-8E5B-7C2793C4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FAAF-0533-41C7-AFF9-8941793E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2502-32B3-4163-8B09-773C8671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8E90-87A2-442C-AFA1-2FC7DB75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2A74-B3E0-46C7-AB36-CCCBF00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52B-1241-4879-8ACF-2ED0E8DF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8B8-4C5B-4E75-B678-840E537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A14-0B49-4300-9897-F893BC33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0555-9248-4EE3-A708-98CF53C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D518-1D65-4546-BE3C-90EDF2D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13C2-A53C-40D7-94F1-E92B81AB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A36-16C5-4906-BFE8-A7CA438D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3E24-0A1D-4B6F-B6FB-B700A568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144-AEF0-4672-B68E-48D1946A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633-81C1-47BA-A4A2-05F9A17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C3B-C10C-49BD-BD17-88136A25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072-FAF9-4200-89EE-A4C3B79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D98-4DFB-4B06-BF3D-CACF508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B13-309D-4A20-963B-551C704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BA5-5AF4-4F27-A2DA-DB2D8D88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793-5BFB-4094-848F-55B379ED9E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2061-69FA-4962-A0ED-EC16FFFBD53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Divisive Politics of Slave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tion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ifferences Between the North and the South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" name="800px-US_map_1864_Civil_War_divisions.svg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952880" cy="310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86400" y="1371600"/>
            <a:ext cx="36576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th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ousands of Immigrants have entered the Nor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ppose slavery because it means less work for immigrants and made immigrants look bad by doing a “slave’s job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rely Industr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st “Modern” pace with growth of Railroads and moving wes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fferences Cont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n’t changed since the beginning of Amer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ill the same slow, agricultural s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immigrants because they are not treated well and don’t want to do work a slave do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th relies completely on their sla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US_map-South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54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lmot Provi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749680"/>
            <a:ext cx="38098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endment proposed by Pennsylvanian Democrat David Wilmo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said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ither Slavery nor involuntary servitude shall every exist in any territory the United States might acquire as a result of the war with Mex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654200"/>
            <a:ext cx="36576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Controvers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outhern states took this as the north trying to tip congress in their favor by getting rid of a possible slave sta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orthern states were angry at the south for refusing to allow roads and canals built and were afraid of a slave-state dominating cong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aa_polk_wilmot_2_m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aa_polk_wilmot_1_m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Threat of Sec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ifornia enters U.S as a free state by own choi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uses distrust in Cong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rth wants Abolition of slavery in District of Columb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rth also wants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opular Sovereignt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he right of residents of a territory to vote for or against slaver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for new territo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outh wants Fugitive Slave Act of 1793 to be follow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secession-movement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05320" cy="2876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95680" y="5410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ecess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formal withdrawal of a state from the Un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y’s Compromise of 1850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685800"/>
            <a:ext cx="6858000" cy="6172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6553080" cy="6095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at the South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a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914400"/>
            <a:ext cx="304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at the North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a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676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la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6576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orth to enforce the Fugitive Slave 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438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lifornia as a slave st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105520"/>
            <a:ext cx="23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bolition of slavery in the district of Columb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8288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ifornia be allowed to enter as a fre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320040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tah and New Mexico be allowed to decide for themselves about sla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1066680"/>
            <a:ext cx="2209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romi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051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ifornia admitted as a fre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590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tah and New Mexico allowed to decide for themsel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35268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xas is paid $10 million by Fed. Gov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03848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ale of slaves banned in District of Columbia but slavery is allow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502920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ugitive slave act modified so free states must help capture runawa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ults of Propos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143000"/>
            <a:ext cx="33530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nate rejected propos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ay gives 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ephen A. Douglas (Illinois) takes o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poses all parts of the Compromise one at a time instead of all at o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ident Taylor Dies unexpected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llard Fillmore takes his pla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2952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ident Fillmore supports compromise and it is finally passed through negations with the s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compromise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38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0:33:56Z</dcterms:created>
  <dc:creator>Meg A Snyder</dc:creator>
  <dc:description/>
  <dc:language>en-US</dc:language>
  <cp:lastModifiedBy>Meg A Snyder</cp:lastModifiedBy>
  <dcterms:modified xsi:type="dcterms:W3CDTF">2008-05-02T01:29:54Z</dcterms:modified>
  <cp:revision>7</cp:revision>
  <dc:subject/>
  <dc:title>The Divisive Politics of Slavery</dc:title>
</cp:coreProperties>
</file>